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C4EF-03E8-416E-BE88-4706F83E6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2D0D-CF9A-47C2-A020-56ADB2C27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the students launch Access and start the Northwind Traders database.  Follow the direction on the STARTUP SCREEN.  Log in as whoever is the first person in the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out the left-hand side of the screen contains the NAVIGATION PANE.  Click on CUSTOMERS &amp; ORDERS.  Double-click to select the CUSTOMER LIST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 student to tell you what are the fields…records…what is the primary k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2285-76A4-44EB-B2C9-276C12C4A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:  allows a user to enter data that is, typically, sent to a server for processing and to mimic the usage of paper forms. Forms can be used to submit data to save on a server (e.g., ordering a product) or can be used to retrieve data (e.g., searching on a search engine). – from http://en.wikipedia.org/wiki/Form_(we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SUPPORTING OBJECTS in the navigation pane.  Scroll down to and double-click on the SALES ANALYSIS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go to the navigation icons on the lower left of the form. Tell them to hover over the icons to show the tool tips. – FIRST RECORD – CURRENT RECORD  - NEXT RECORD – LAST RECORD – NEW (BLANK) RECORD  is dimmed and not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come up with examples for form they’ve us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E324-9220-43FD-9906-D976D5B5D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bject in a database designed to print information from a database (either on the screen, to a file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to the prin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come up with examples for form they’ve us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6CC7-5F46-4E71-84B9-1CC27EAC8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to DESIGN VIEW – lower right-hand corner of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them to click on one of the SORT fields and select DECENDING and then click on the RUN (!) icon to run the qu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A6F0-C0FE-4515-B397-162CB1E19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D0F4-86BB-4736-A705-7BF68F18D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uery: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basic – “To ask a question.’  FROM - http://en.wiktionary.org/wiki/quer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TING INFORMATION FROM THE DATA ENTRED INTO A DATA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your data showing information from one or more tables. For instance, u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ple database we used when describing normalisation, you could query the Stu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base asking "Show me the first and last names of the students who take both history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graphy and have Alice Hernandez as their advisor" Such a query displays information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ents table (firstname, lastname), Courses table (course description) and Advisor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visor name), using the keys (student ID, course ID, advisor ID) to find matching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come up with examples for form they’ve us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the students click on the CREATE tab.  Click on the QUERY WIZARD &gt; SIMPLE QUERY WIZARD then OK &gt; add a few fields from the CUSTOMERS table &amp; click on NEXT &gt; click on FIN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4A79-B7CE-4066-875F-6AA11850C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s — the tables, reports, forms, and so on — in a database. For example, if you need to run a report, you start it from the Navigation Pane. If you need to change the design of your report, you can also open your report in Design view from the Navigation P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F6D8-A746-4A04-AEDD-1D0E25908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9DF8-A0A4-4938-8C3E-4A56B5F77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A8A2-7B2D-4CDA-9EFC-D433FCF4D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k everyone to turn their monitors of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and out the notes pag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day’s agend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nstration of Database examples. Explanation of relevant vocabulary and termi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mind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ccess myITlab uni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Access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for the Post-tes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uestions?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C770-C448-41CA-9278-E74B829EC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is a collection of numbers, characters, images or other outputs. Data is often viewed as a lowest level of abstraction from which information and knowledge are derived. – from http://en.wikipedia.org/wiki/Da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sk them to come up with examples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cording to the Oxford English Dictionary, the earliest historical meaning of the word </a:t>
            </a:r>
            <a:r>
              <a:rPr b="1" i="1" lang="en-US" sz="1100" spc="-1" strike="noStrike">
                <a:solidFill>
                  <a:srgbClr val="000000"/>
                </a:solidFill>
                <a:latin typeface="Calibri"/>
              </a:rPr>
              <a:t>informat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in English was the act of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informing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, or giving form or shape to the mind, as in education, instruction, or training. Information is a quality of a message from a sender to one or more receivers. Information is always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abou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something (size of a parameter, occurrence of an event, etc). Viewed in this manner, information does not have to be accurate; it may be a truth or a lie, or just the sound of a falling tree. – from http://en.wikipedia.org/wiki/Inform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sk them to come up with examples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atabase: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 collection of related information stored in a structured forma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sk them to come up with examples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3ADC-303A-48F3-947A-AA945DBEE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eld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elds describe a single aspect of each member of a table. A student record, for instanc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ht contain a last name field, a first name field, a date of birth field and so on. All rec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exactly the same structure, so they contain the same fields. Th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alues in each field v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record to record, of course. In some database systems, you'll find fields referred to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ttribu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come up with examp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D30C-C40E-4FF0-A3AB-97DDA1C0F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cord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cord contains all the information about a single 'member' of a table. In a stu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ble, each student's details (name, date of birth, contact details, and so on) will be contained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own record. Records are also known a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uples in technical relational database par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come up with examp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9136-DD22-4E8D-B7FC-8052B7C63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91D2-A258-46A9-902F-6798AE8A1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abl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ngle store of related information. A table consists of records, and each record is m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of a number of fields. Just to totally confuse things, tables are sometime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l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think of the phone book as a table: It contains a record for each telephone subscrib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each subscriber's details are contained in three fields - name, address and teleph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come up with examp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A3B8-C79A-4BB1-B10F-5F790841E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imary key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ield that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uniquely identifies a record in a table. In a students table, for instanc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key built from last name + first name might not give you a unique identifier (two or more J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in the school, for example). To uniquely identify each student, you might add a spe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ID field to be used as the primary k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come up with examp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3C92-DD79-473D-89DD-348645954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lational databas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atabase consisting of more than one table. In a multi-table databa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ot only need to define the structure of each table, you also need to define the relation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each table in order to link those tables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them to come up with examp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A5DA-03C3-449F-9093-4E9C56B47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F69-5EAC-48F0-A8B3-845F84D7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08F-7C64-47F5-BBDC-2EC1EAA4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1F1-31C4-480E-A87E-32B471B6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714-BB00-4B54-88B7-6B580473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22B-3949-41C8-BF5F-AEBD73BF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5DD-D257-499C-B968-F681A360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0E1-7A61-4749-8426-72CB0093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C6F-D714-48C6-9792-B0BFFFD7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1F4-A517-48A3-9A60-C1475DE4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218-8E91-41A7-9C6D-AC7E6349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D7A-B8E6-4181-AF4D-BFF9F3A4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9BB-2F62-4B25-AECC-F6F378C2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1FA4-5421-4599-B465-10D5CB5358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lational Database Examp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905120" y="1327320"/>
            <a:ext cx="5943600" cy="545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BMS terminology i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ffice 2007: </a:t>
            </a:r>
            <a:r>
              <a:rPr b="1" lang="en-US" sz="4400" spc="-1" strike="noStrike">
                <a:solidFill>
                  <a:srgbClr val="222268"/>
                </a:solidFill>
                <a:latin typeface="Garamond"/>
              </a:rPr>
              <a:t>Datashee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73240" y="1371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other term for a tabl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llection of rows and colum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BMS terminology i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ffice 2007: </a:t>
            </a:r>
            <a:r>
              <a:rPr b="1" lang="en-US" sz="4400" spc="-1" strike="noStrike">
                <a:solidFill>
                  <a:srgbClr val="222268"/>
                </a:solidFill>
                <a:latin typeface="Garamond"/>
              </a:rPr>
              <a:t>For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6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form is where the data will be entered into the database.  Eases data entry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5333760" cy="4206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BMS terminology i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ffice 2007: </a:t>
            </a:r>
            <a:r>
              <a:rPr b="1" lang="en-US" sz="4400" spc="-1" strike="noStrike">
                <a:solidFill>
                  <a:srgbClr val="222268"/>
                </a:solidFill>
                <a:latin typeface="Garamond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43000" y="1905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report is the finished product of a databa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s is when data is being displayed in a way that will make sense to the u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ery Examp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port Examp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BMS terminology i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ffice 2007: </a:t>
            </a:r>
            <a:r>
              <a:rPr b="1" lang="en-US" sz="4400" spc="-1" strike="noStrike">
                <a:solidFill>
                  <a:srgbClr val="222268"/>
                </a:solidFill>
                <a:latin typeface="Garamond"/>
              </a:rPr>
              <a:t>Quer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1447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search to find specific informa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n be typed into a text box, or automatically though a lin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4419720" cy="3459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bject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907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s are all of the things that make a databa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r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rm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bjects Examp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2057400" y="1569960"/>
            <a:ext cx="5943600" cy="47545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1981080" y="2209680"/>
            <a:ext cx="1143000" cy="3886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ving in Acces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ving Objects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Quer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ving Databases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3240" y="2468160"/>
            <a:ext cx="69040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Datafaces</a:t>
            </a:r>
            <a:endParaRPr b="0" lang="en-US" sz="9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Picture 2" descr="C:\Users\candacel\AppData\Local\Microsoft\Windows\Temporary Internet Files\Content.IE5\L0CSU535\MCj04379800000[1].wmf"/>
          <p:cNvPicPr/>
          <p:nvPr/>
        </p:nvPicPr>
        <p:blipFill>
          <a:blip r:embed="rId1"/>
          <a:stretch/>
        </p:blipFill>
        <p:spPr>
          <a:xfrm>
            <a:off x="6858000" y="380880"/>
            <a:ext cx="1905120" cy="1378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candacel\AppData\Local\Microsoft\Windows\Temporary Internet Files\Content.IE5\BU4W3PXO\MCj04257500000[1].wmf"/>
          <p:cNvPicPr/>
          <p:nvPr/>
        </p:nvPicPr>
        <p:blipFill>
          <a:blip r:embed="rId2"/>
          <a:stretch/>
        </p:blipFill>
        <p:spPr>
          <a:xfrm>
            <a:off x="6858000" y="4876920"/>
            <a:ext cx="1876320" cy="162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Users\candacel\AppData\Local\Microsoft\Windows\Temporary Internet Files\Content.IE5\DECOATC0\MCj04324410000[1].wmf"/>
          <p:cNvPicPr/>
          <p:nvPr/>
        </p:nvPicPr>
        <p:blipFill>
          <a:blip r:embed="rId3"/>
          <a:stretch/>
        </p:blipFill>
        <p:spPr>
          <a:xfrm>
            <a:off x="380880" y="380880"/>
            <a:ext cx="1816200" cy="1600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C:\Users\candacel\AppData\Local\Microsoft\Windows\Temporary Internet Files\Content.IE5\L0CSU535\MCj04298070000[1].wmf"/>
          <p:cNvPicPr/>
          <p:nvPr/>
        </p:nvPicPr>
        <p:blipFill>
          <a:blip r:embed="rId4"/>
          <a:stretch/>
        </p:blipFill>
        <p:spPr>
          <a:xfrm>
            <a:off x="457200" y="4800600"/>
            <a:ext cx="1873080" cy="16891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ata Base Management Software (DBMS) is a tool used to transform </a:t>
            </a:r>
            <a:r>
              <a:rPr b="1" lang="en-US" sz="4000" spc="-1" strike="noStrike">
                <a:solidFill>
                  <a:srgbClr val="222268"/>
                </a:solidFill>
                <a:latin typeface="Garamond"/>
              </a:rPr>
              <a:t>Dat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into </a:t>
            </a:r>
            <a:r>
              <a:rPr b="1" lang="en-US" sz="4000" spc="-1" strike="noStrike">
                <a:solidFill>
                  <a:srgbClr val="222268"/>
                </a:solidFill>
                <a:latin typeface="Garamond"/>
              </a:rPr>
              <a:t>Informatio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7324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</a:t>
            </a:r>
            <a:r>
              <a:rPr b="1" lang="en-US" sz="3600" spc="-1" strike="noStrike">
                <a:solidFill>
                  <a:srgbClr val="222268"/>
                </a:solidFill>
                <a:latin typeface="Garamond"/>
              </a:rPr>
              <a:t>Dat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…?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</a:t>
            </a:r>
            <a:r>
              <a:rPr b="1" lang="en-US" sz="3600" spc="-1" strike="noStrike">
                <a:solidFill>
                  <a:srgbClr val="222268"/>
                </a:solidFill>
                <a:latin typeface="Garamond"/>
              </a:rPr>
              <a:t>Informatio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…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a </a:t>
            </a:r>
            <a:r>
              <a:rPr b="1" lang="en-US" sz="3600" spc="-1" strike="noStrike">
                <a:solidFill>
                  <a:srgbClr val="222268"/>
                </a:solidFill>
                <a:latin typeface="Garamond"/>
              </a:rPr>
              <a:t>Databas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…?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BMS terminology: </a:t>
            </a:r>
            <a:r>
              <a:rPr b="1" lang="en-US" sz="4400" spc="-1" strike="noStrike">
                <a:solidFill>
                  <a:srgbClr val="222268"/>
                </a:solidFill>
                <a:latin typeface="Garamond"/>
              </a:rPr>
              <a:t>Fiel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t is where one category of data is stored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 the Facebook database you have a field where you input your favorite music, TV Shows, Movies, etc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752480" y="3809880"/>
            <a:ext cx="5943600" cy="20653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BMS terminology: </a:t>
            </a:r>
            <a:r>
              <a:rPr b="1" lang="en-US" sz="4400" spc="-1" strike="noStrike">
                <a:solidFill>
                  <a:srgbClr val="222268"/>
                </a:solidFill>
                <a:latin typeface="Garamond"/>
              </a:rPr>
              <a:t>Recor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s is where all of the data for one particular entry in the form is stored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or example - all of the data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“Ferris Bueller” in Facebook would be a recor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cord Examp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943600" cy="511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BMS terminology: </a:t>
            </a:r>
            <a:r>
              <a:rPr b="1" lang="en-US" sz="4400" spc="-1" strike="noStrike">
                <a:solidFill>
                  <a:srgbClr val="222268"/>
                </a:solidFill>
                <a:latin typeface="Garamond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37160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ne table would be an entire school’s Facebook account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648320" y="1238400"/>
            <a:ext cx="4286160" cy="5086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BMS terminology: </a:t>
            </a:r>
            <a:br>
              <a:rPr sz="4400"/>
            </a:br>
            <a:r>
              <a:rPr b="1" lang="en-US" sz="4400" spc="-1" strike="noStrike">
                <a:solidFill>
                  <a:srgbClr val="222268"/>
                </a:solidFill>
                <a:latin typeface="Garamond"/>
              </a:rPr>
              <a:t>Primary Key Fiel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2880" y="1447560"/>
            <a:ext cx="69800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n a database there needs to be a way to uniquely distinguish one record from another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 “primary key field” is a field that is unique to a specific record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Facebook equivalent -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email addres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1828800" y="4890960"/>
            <a:ext cx="5943600" cy="1586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lational Databas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en all tables are related through one common interes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acebook equivalent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Facebook group that anyone from any school could joi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8T02:25:34Z</dcterms:created>
  <dc:creator>Gene W. Lewis</dc:creator>
  <dc:description/>
  <dc:language>en-US</dc:language>
  <cp:lastModifiedBy>cob</cp:lastModifiedBy>
  <dcterms:modified xsi:type="dcterms:W3CDTF">2009-02-15T13:05:28Z</dcterms:modified>
  <cp:revision>137</cp:revision>
  <dc:subject/>
  <dc:title>Database Systems</dc:title>
</cp:coreProperties>
</file>